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A9E8-2F89-451A-B6EF-7C98DF59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35EB-F5A6-499D-9379-71BACAFA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B7B7-B131-400C-A157-DA97FA8F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75F1-43C4-43E6-91B8-6577A809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CE61-AA76-464C-9B9C-25B9ADC4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4E1-D03D-48F9-ACAB-35A7458B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32E-BC1A-4778-93DD-1BB2D749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0E9-E135-4A60-9ABA-1968B60B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6174-140A-49D3-84B7-6DB6F27A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BC9-9E60-435A-B6B3-E5819697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9D2-65EB-48CC-B52F-5A498B07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4C1D-7A4E-4A25-A13F-BFBCAED5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17FE-7E96-4C43-B2BC-0E4929567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artment of Jus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Richard Hami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y D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at terro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 miss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e fra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victims of C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t domestic violen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at gang viol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youth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ht Traffic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: Traffi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king is the selling of people like slaves which is basically modern slavery and its all around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to Traffi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. Bush gave a speech with world leaders to help with stopping traffic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would d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ould try to get it out in the public let people know of what's going on that slavery is still out there and is still a big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5:12:53Z</dcterms:created>
  <dc:creator>AnyStudent</dc:creator>
  <dc:description/>
  <dc:language>en-US</dc:language>
  <cp:lastModifiedBy>Tamera Detrick-Posthumus</cp:lastModifiedBy>
  <dcterms:modified xsi:type="dcterms:W3CDTF">2008-11-25T15:11:14Z</dcterms:modified>
  <cp:revision>4</cp:revision>
  <dc:subject/>
  <dc:title>Department of Justice</dc:title>
</cp:coreProperties>
</file>